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FBD-2979-4C36-B3C1-62322C25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E84-AED3-471F-9B2B-058C7AC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D4C-7DE1-4BF1-BA1D-321A33D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C17-2344-4723-A98F-0E1EBC2E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651F-0987-4317-B223-82604191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C60-D2AD-4A4C-B0B5-06547A7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67D5-9998-478C-82E9-22279E22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DBFB-738E-47D0-B7A1-495BA56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DA5-097F-43A2-A1F5-DDD6F93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F2F-AB0D-4895-B962-A726637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585-F3C3-43B8-B951-EC11ED8D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623-60A0-4A5D-9D97-0E355672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1382-FD68-4861-AE38-BB9F573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FCF-9529-4DC6-B702-014AC8F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DB86-5FB4-407E-A5AE-1A8CF38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A41-2D82-441D-BBDC-C323069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FDD-F987-4E37-88F9-A28B4653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B5DE-B124-497E-A09E-E3FFE96C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02BD-2D70-483D-8410-2E28B79D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F8B3-5050-4731-B110-01EE91E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4A1E-7240-4A58-8A72-4371A20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0D61-32D5-4429-85C9-C4BA370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EF7-3A9F-413C-9920-CA79837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DAF1-C72D-4667-B6F4-BA67D5E5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B7E7-C169-488B-BEF4-B733EAA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FD60-235A-4088-AD4D-7FEB0E0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76EB-E635-4313-9C3E-4FD44BC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EC0D-73AB-4E89-99F2-6E0B55D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B62F-453F-4571-A46F-A4B18D1D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05D9-BC92-44CC-9364-CB5D1745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025D-1827-453D-8AA7-5D305816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1308-F949-48E6-9719-EE752AD9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E07F-1D4E-48CD-A419-17E7445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0F3-5105-4B7B-A99E-1FDB492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3D6C-2612-4FF1-ABC0-916D779A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7FCD-DE86-40A6-A281-62690F7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EDE8-18AC-40A4-8A82-F5436CA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CABE-621E-41BB-9885-64F350E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F7C7-31AB-4353-BD2B-84145FD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D72B-E9EF-4942-8A57-065BC69D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8A4B-2801-4BF7-898F-4658A4F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D14E-255B-4903-B179-35C1EE1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0973-B6A0-4DA1-AB5B-DD294032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AD2-51DB-436E-B52E-72799DD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547-E4ED-4DFC-8DC0-3913182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A64-9AB5-4426-A3CB-6137282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CEB-94E4-4D9C-BDDE-355BF94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017-9D15-473A-9CEA-98B38919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EAB-F188-43AD-A292-3D348F1239C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CE6-B1FB-4041-9953-9D726CE651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9D7-6780-4ABE-9BCC-75565CB191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4EAF-6FDA-40B1-B05D-28AF0101191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695160"/>
            <a:ext cx="9016920" cy="2578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0028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 Терентьев Григорий Владими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зико-математического факультета КГП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кишев Г.Я. , Буховцев Б.Б. Физика – 11. М. 199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снин Р.В., Яковлев В.Ф. Курс физики. Электричество. М. 19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орский Б.М., Пинский А.А. Основы физики. т. 2. М. 19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ru.wikipedia.org/wiki/Электромагнитное_излуч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physics.ru/courses/op25part2/content/chapter2/section/paragraph6/theory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bse.sci-lib.com/article126043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rlqywusgjtoy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ur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Основополагающий вопрос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 чего создан мир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5324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ные воп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какое время услышат мой голос на сатурн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отрогать св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обретали ради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Учебные вопрос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волна и какими характеристиками она обусловлен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экспериментально доказывают существование электромагнитных вол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сть потока электромагнитного изл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обретали ради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модуляция и детектирова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радиоволн и их распростран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7045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бл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ы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бщ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то – репорта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чное зад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4143240" y="2428920"/>
            <a:ext cx="40705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Будем изучать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волна и ее характерис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вол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ериментальное доказательство существова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сть потока электромагнитного излуч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обретение ради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йства 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уляция и детектир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радиоволн и их распростран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"/>
          <p:cNvPicPr/>
          <p:nvPr/>
        </p:nvPicPr>
        <p:blipFill>
          <a:blip r:embed="rId1"/>
          <a:stretch/>
        </p:blipFill>
        <p:spPr>
          <a:xfrm>
            <a:off x="4714920" y="285840"/>
            <a:ext cx="36432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пределение изучения те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214280"/>
          <a:ext cx="8229600" cy="5353200"/>
        </p:xfrm>
        <a:graphic>
          <a:graphicData uri="http://schemas.openxmlformats.org/drawingml/2006/table">
            <a:tbl>
              <a:tblPr/>
              <a:tblGrid>
                <a:gridCol w="971640"/>
                <a:gridCol w="3714840"/>
                <a:gridCol w="148572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исло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 ис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нятие волна и ее 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омагнитные вол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кспериментальное доказательство существовани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омагнитных вол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отность потока электромагнитного изл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обретение рад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ойства электромагнитных вол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дуляция и детек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ды радиоволн и их распрост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Продолжительность проекта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71440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 недел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500040" y="2357280"/>
            <a:ext cx="2508120" cy="39164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2"/>
          <a:stretch/>
        </p:blipFill>
        <p:spPr>
          <a:xfrm>
            <a:off x="6143760" y="2500200"/>
            <a:ext cx="24368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8:15:26Z</dcterms:created>
  <dc:creator>Григорий</dc:creator>
  <dc:description/>
  <dc:language>en-US</dc:language>
  <cp:lastModifiedBy>26095</cp:lastModifiedBy>
  <dcterms:modified xsi:type="dcterms:W3CDTF">2010-06-05T06:59:40Z</dcterms:modified>
  <cp:revision>11</cp:revision>
  <dc:subject/>
  <dc:title>Электромагнитные волны</dc:title>
</cp:coreProperties>
</file>